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7A5-968D-4F64-BE26-5332C6B2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2E6-1818-40E3-87C0-F8D4B0C3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C38-360C-4452-B1BD-7AF3C7C5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01B-3053-4F54-9041-4B489217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360-4170-4189-937F-A43F5D12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145-5872-4EAD-8FD1-A890046F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8ED-E838-44E0-A5B0-1FE7B5F4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CA1-4147-4FBC-BF1D-17056F06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D5A-32FD-410E-8769-CF2ACAA9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5C7-27C6-4442-99E9-0E02A27A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510-E74B-4D9A-8C02-FEA2634D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F5B-A5B1-42A3-A913-FB6E69DC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B1E8-0D08-4192-AFCB-7480E377C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9 Láskavý Pane, Bože všemohú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ako víťaz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ončíš všetky b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tvoja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o pamät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e všemohúc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uč ma niesť môj každodenný krí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roznieť vier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lameň nehasnúc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chybnosť zaž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rdca trýzeň st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v tebe cieľ 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tia prežiaduc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náručí svoj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šu spokoj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lčky na Pána čak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a duš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neho príde tvoja záchrana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oc aj Láska tvoju vernosť skúš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ude nádej tvoja sklama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kaj na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úšky pominú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 teba sní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y breme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lčky na Pána čak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m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jeho vôle vždy sa odovz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viesť chc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y kroky tv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ystá ti z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ý blaha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3:19:04Z</dcterms:modified>
  <cp:revision>20</cp:revision>
  <dc:subject/>
  <dc:title>Je veľký náš Pán, on slávy je Kráľ Nech do všetkých strán  spev vrúcnych znie chvál.</dc:title>
</cp:coreProperties>
</file>